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9ED-22CD-4F8D-8439-AF9B631A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5AF-6298-40A0-AEFE-EE5C86F7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2ED-FC10-4474-9EC3-106CF86E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4C4-B727-4FBF-80D5-106A96B6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B541-376C-47CB-A6F9-DC473137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74CB-434E-433B-8567-12027E58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E09C-9F73-42F7-8D89-473C07B4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468D-10C6-45CC-8290-A0F14F3F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03F9-ABF8-48BD-8844-A366D219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70B5-EF4C-44DD-86D6-214B2E26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56A6-C3E0-45FC-A809-2B17882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0F6-C044-4ED0-9177-B42B8A03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799B-72B1-4AFA-AD68-5F98811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92EC-F5E7-4897-AE26-DE95D9AF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CA5D-DB20-40DE-B87D-5AF38D08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0FCC-02F3-4CC7-B59B-E6EE683E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39D9-6B85-4CCD-9F9C-2018B105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A9E-7BCE-476F-BF69-697BFAC6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A99-F216-42C0-809B-7FCF571D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8B2-57BA-4DFD-8C8B-1B3A320D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F37-4FF5-47E3-8BFE-11C4D51A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9B7-7ABF-4FB4-9454-FB201848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A80-C56C-4CE7-8468-994DC59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C94-1F97-471D-9887-03075A48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707-584B-4643-8FE8-A22D4B3CFD2A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5473-F388-47D7-9998-FA791647CB1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OPADŁOŚC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JEGO WYMI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, SZEROKOŚĆ I WYSOKOŚĆ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097000" y="144936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144936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389320" y="5295960"/>
          <a:ext cx="240804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9320" y="5295960"/>
                    <a:ext cx="24080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754520" y="4429080"/>
          <a:ext cx="161784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54520" y="4429080"/>
                    <a:ext cx="161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499000" y="1719360"/>
          <a:ext cx="1278000" cy="274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9000" y="1719360"/>
                    <a:ext cx="12780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, SZEROKOŚĆ I WYSOKOŚĆ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640" y="1314000"/>
            <a:ext cx="83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ługość, szerokość i wysokość prostopadłościanu to wymiary prostoką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ysokość prostopadłościanu oznaczamy literą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46280" y="230364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230364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06:40Z</dcterms:modified>
  <cp:revision>92</cp:revision>
  <dc:subject/>
  <dc:title>Slajd 1</dc:title>
</cp:coreProperties>
</file>